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497-235E-4B65-9754-1B958F2F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7EA-0BA8-4C7E-8E78-FC303547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3245-3650-40A5-8A15-0A6AD487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B52F-E887-49E2-853A-A6C56C9B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B7D9-B8F9-449F-A81F-297737F6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D2B8-AC45-49B9-BE63-F0D812E7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3642-9180-47F6-BF0C-AB4F0482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60B5-1795-4E5E-AB30-F4EC4001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2DBD-CC06-4C65-99E8-61E23F48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69E9-8710-40B1-9AFF-E849EF8A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5255-3D1F-4D5E-8542-3D32378E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DEB-3DBA-4CF6-90EB-A3DA0CEE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C0BE-59BA-48D3-A40C-1A49481E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53B2-828D-477C-A8BA-68D0F947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0856-F7A3-497A-94BF-C7AA0E18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194B-37C1-4939-8E13-A6EC05F7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FB38-3100-4228-A98D-336B13D2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201-A217-481E-82FB-9C2C95F2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3FF-C233-4C0F-A0A5-8C844EAB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B7B-4646-4FDE-8AE8-108C61B4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927-F9DD-409F-83E1-DFD3E01E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D66-58A4-4A5E-B5E7-FF0E4BCA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FDB-DD37-4D96-9C27-71266667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33E-BC13-4F5E-8AE4-8D115475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B985-BF4E-4EEA-A175-0960F7A3CFA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67B3-BE2D-4FFF-901D-4941029CE31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7d47d"/>
                </a:solidFill>
                <a:latin typeface="Arial"/>
              </a:rPr>
              <a:t>METODA BACKTRACKING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083960" y="3870360"/>
            <a:ext cx="574524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2f1311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2f1311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64000" y="1773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9b2</cp:lastModifiedBy>
  <dcterms:modified xsi:type="dcterms:W3CDTF">2012-06-19T10:52:17Z</dcterms:modified>
  <cp:revision>32</cp:revision>
  <dc:subject/>
  <dc:title>SALARIUL</dc:title>
</cp:coreProperties>
</file>